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F0E3C-9DAF-4AFA-BF95-C52382A5C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ADF0E-FBD3-4E1C-859F-92C024DA9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tation number enclosed in square brackets, offset from the rest of the citation: [1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hor(s): H. Inose, P. Fingle, and J.R. Pier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tle (in italics)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nformation Technology and Civilization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ion - if not the first: 2nd ed.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of publication: New York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blisher: Free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of publication: 1984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ge(s): pp. 105-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hors: Laudon, KC &amp; Laudon, J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e: 2003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tle - in italics: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sentials of management information systems: managing the digital firm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blisher: Prentice Hal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: Upper Saddle River, N.J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AAC-3458-4512-B62A-486AFF10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FED7-4308-49DC-A6E0-3DEA48F5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B52A-2A74-4091-B63F-7DC68C18C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9CB1-1625-47DC-B935-B56D19F6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92D-5CE9-4FD7-B6E3-3B2FFA8BE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88E-5EEB-4E13-A0EB-8944270A5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DA9-AAC7-40AD-AA24-9DD8DAC8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0D6A-E7D3-4EE5-B487-E250C8B8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95A5-B3BA-485A-BDB9-B1B1B891C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6020-B9D0-4C98-829C-1EF00219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6438-27F9-441F-9AC9-5D1777B2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845F-3815-41DC-99C7-8B1E55D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5F98-C296-4C81-9E13-031FF920F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lib.murdoch.edu.au/find/citation/ieee.html" TargetMode="External"/><Relationship Id="rId2" Type="http://schemas.openxmlformats.org/officeDocument/2006/relationships/hyperlink" Target="http://libweb.anglia.ac.uk/referencing/harvard.ht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eattlecentral.org/library/101/textbook/glossary.html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anding Learner Ethics and Avoiding Plagiar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book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uthor(s)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. Maier, A. Barney, G. Pr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itle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tudy Skills for 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Har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Pearson Education Lt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851280" y="5516640"/>
            <a:ext cx="4824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Number your reference list  1, 2 , 3  et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3300"/>
                </a:solidFill>
                <a:latin typeface="Arial"/>
              </a:rPr>
              <a:t>Title of book is in ital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EEE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In text  ci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he same data was recorded by [1] although later work showed significant differences [2]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reference list: (journal articl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[1]  H. Inose, P. Fingle, and J.R. Pierce, </a:t>
            </a:r>
            <a:r>
              <a:rPr b="0" i="1" lang="en-US" sz="3200" spc="-1" strike="noStrike">
                <a:solidFill>
                  <a:srgbClr val="0066ff"/>
                </a:solidFill>
                <a:latin typeface="Arial"/>
              </a:rPr>
              <a:t>Information Technology and Civilization,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 2nd ed., New York:   Freeman, 1984, pp. 105-1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ss, G 2003,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IS Project Management Handbook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spen Publishers, New Y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Auth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Doss, 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Dat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   2003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Title:       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S Project Management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               Handbook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ublis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New York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Pla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 Aspen Publish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text ci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ustomer compatibility management emphasizes the controllability of customer to customer interaction in the higher education environment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(Rowley, 1996)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 reference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wley J.E. 1996,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ducational Manag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Longman, Lond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Harvard referencing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t 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 ‘and all other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ext citation with multiple auth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(Laudon </a:t>
            </a:r>
            <a:r>
              <a:rPr b="0" i="1" lang="en-US" sz="1800" spc="-1" strike="noStrike">
                <a:solidFill>
                  <a:srgbClr val="0066ff"/>
                </a:solidFill>
                <a:latin typeface="Arial"/>
              </a:rPr>
              <a:t>et al</a:t>
            </a: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 200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ans – same as information above in a reference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rect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"These resting times provide periods for reflection and permit time for new things to be learned, mastered and brought to fruition" (Jones, 1995, pp.122-3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more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IE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lib.murdoch.edu.au/find/citation/ieee.htm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Harv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libweb.anglia.ac.uk/referencing/harvard.htm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lect a referenc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ext ci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erence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rect quo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en should you use in-text cita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860480"/>
            <a:ext cx="8229600" cy="40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quoted directly from someone else’s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When you have paraphrased the work of another author, rather than quoted directly from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referred to previously published work of your ow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66ff"/>
                </a:solidFill>
                <a:latin typeface="Arial"/>
              </a:rPr>
              <a:t>If someone’s work or ideas are the source of a particular theory, argument or viewpoi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en you have used specific information, e.g. statistics or case stud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ep notes of your 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notes with FULL referen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Put in quotes any pieces of text you want to use directly + the page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xtbook author may refer to another person – note the name of the other person and say:  ‘ Jones cited in Fox (2001)’ with full reference of text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Use </a:t>
            </a: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Endnote</a:t>
            </a: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 bibliographic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On all public work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8544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learner 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dentify plagia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how plagiarism can be avoi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in-text citation (references) to avoid plagiari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Comment on your own understanding of plagiarism and how you aim to avoid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cide to use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ither Harvard or IEE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nd in any work where you have had to reference othe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ake notes from section in a book with a full referencing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w examples of using a referenc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ok  - single and multiple auth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eb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ee ITEMS FOR THE PORTFOLIO on B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et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84360" y="14130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cc"/>
                </a:solidFill>
                <a:latin typeface="Arial"/>
              </a:rPr>
              <a:t>DON’T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exams/course work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bricat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invent info for an essay/ invent lab dat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lagiar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ake other people’s work as your ow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ny others access to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making library material unavailab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</a:rPr>
              <a:t>tearing pages out of book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7"/>
          <p:cNvSpPr/>
          <p:nvPr/>
        </p:nvSpPr>
        <p:spPr>
          <a:xfrm>
            <a:off x="5219640" y="620640"/>
            <a:ext cx="3816360" cy="3095640"/>
          </a:xfrm>
          <a:prstGeom prst="irregularSeal1">
            <a:avLst/>
          </a:prstGeom>
          <a:solidFill>
            <a:srgbClr val="ffff00">
              <a:alpha val="45000"/>
            </a:srgbClr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6515280" y="1844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cc"/>
                </a:solidFill>
                <a:latin typeface="Arial"/>
              </a:rPr>
              <a:t>Activity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539640" y="6381720"/>
            <a:ext cx="72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dapted from: http://teachx.rutgers.edu/integrity/student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plagiar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another author's ideas or words without proper documentation; representing someone else's creative work (ideas, words, images, etc.) as one's own, </a:t>
            </a:r>
            <a:r>
              <a:rPr b="0" i="1" lang="en-GB" sz="2800" spc="-1" strike="noStrike">
                <a:solidFill>
                  <a:srgbClr val="333399"/>
                </a:solidFill>
                <a:latin typeface="Arial"/>
              </a:rPr>
              <a:t>whether intentional or not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eattlecentral.org/library/101/textbook/glossary.htm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093080" y="587700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full reference from any text you take notes fr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n’t leave things to the last-min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d map the structure of your ess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te key authors on certain branches of your mind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ext reference to an 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As Price (2006) indicates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Reference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ull references of your 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ce, G.A.(2006) Creative solutions to making technology work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ALT-J Research in Learning Technology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14(1), 21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ey terminology cont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Bibl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ist of all the sources you have used to formulate your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y may not be cited in your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avoid plagiarising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it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in-text citatio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s used when you are discussing the work of another person in your written wor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o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f you include authors’ words directly into your text, this is a quotation, and must also be accompanied by an in-text ci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mall quotations use “   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ng quotations are indented from the main tex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efere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a particular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stitute of Electrical and Electronic Engine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E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rv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d by scientists and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8:30Z</dcterms:modified>
  <cp:revision>77</cp:revision>
  <dc:subject/>
  <dc:title>Getting started in HE</dc:title>
</cp:coreProperties>
</file>